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Welcome participants.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BBF6BF-09B5-4670-BB0F-EE4375843A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F15D77-7CA9-426D-AE76-1556B25366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F5A79E-DA50-4685-B992-092273F028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B91B8A-9E5A-42CC-9D77-917066F08CB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AB64CF-9F6D-4C24-B452-9805E38DC0E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901F7E-74CF-4E31-844D-30EA29694E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93570D-85D1-46F8-BEDA-E44A9499B0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8CBDD3-F6FD-47FC-A055-C93B41863F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70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D42846-9758-41B7-926F-94955BB85E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A03F3F-296B-4A2E-84E6-C2E0ED3C41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420845-D1DD-4294-B53A-801B4A2EAA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0E1F90-BDE3-4E7B-BDA7-EA93506529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" descr=""/>
          <p:cNvPicPr/>
          <p:nvPr/>
        </p:nvPicPr>
        <p:blipFill>
          <a:blip r:embed="rId2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462440" y="624492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7EBD2-8408-4611-8A04-95CF96F5DD5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2" descr=""/>
          <p:cNvPicPr/>
          <p:nvPr/>
        </p:nvPicPr>
        <p:blipFill>
          <a:blip r:embed="rId3"/>
          <a:stretch/>
        </p:blipFill>
        <p:spPr>
          <a:xfrm>
            <a:off x="260280" y="5506920"/>
            <a:ext cx="1652760" cy="455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"/>
          <p:cNvSpPr/>
          <p:nvPr/>
        </p:nvSpPr>
        <p:spPr>
          <a:xfrm>
            <a:off x="0" y="0"/>
            <a:ext cx="9144000" cy="6535800"/>
          </a:xfrm>
          <a:prstGeom prst="rect">
            <a:avLst/>
          </a:prstGeom>
          <a:gradFill rotWithShape="0">
            <a:gsLst>
              <a:gs pos="0">
                <a:srgbClr val="d1d1f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55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"/>
          <p:cNvPicPr/>
          <p:nvPr/>
        </p:nvPicPr>
        <p:blipFill>
          <a:blip r:embed="rId2"/>
          <a:stretch/>
        </p:blipFill>
        <p:spPr>
          <a:xfrm>
            <a:off x="325440" y="270000"/>
            <a:ext cx="2654280" cy="730080"/>
          </a:xfrm>
          <a:prstGeom prst="rect">
            <a:avLst/>
          </a:prstGeom>
          <a:ln w="0">
            <a:noFill/>
          </a:ln>
        </p:spPr>
      </p:pic>
      <p:sp>
        <p:nvSpPr>
          <p:cNvPr id="47" name="Text Box 4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E2EBC-A734-4BED-8121-666A512FEF5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236196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490d8"/>
                </a:solidFill>
                <a:latin typeface="Tahoma"/>
                <a:ea typeface="Tahoma"/>
              </a:rPr>
              <a:t>Math CAMPPP 2011</a:t>
            </a:r>
            <a:endParaRPr b="0" lang="en-US" sz="48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914040" y="3352320"/>
            <a:ext cx="7620120" cy="35053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42478"/>
                </a:solidFill>
                <a:latin typeface="Tahoma"/>
                <a:ea typeface="Tahoma"/>
              </a:rPr>
              <a:t>Welcome 9:53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Looking at student work…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hink of the feedback you could provide the stud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If the student has solved the problem, think of a challenge problem that you could provide the stud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If the student seems to be struggling, think of a scaffold question for the stud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215E6-405D-49BE-B670-6D555DC8CAE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Pass it on…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457200" y="1752480"/>
          <a:ext cx="8229600" cy="24685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llenge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lution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8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8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ACAA0-FBE4-4762-AAE7-2D107D5644F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Gallery Walk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alk a walk and look at the collected work from all of the group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ED95D-DCC8-42E5-84E7-D618F47C089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Camp Journal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609120" y="1599840"/>
            <a:ext cx="5257800" cy="34290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hat strategies do you use in your classroom to help students with patterning and algebr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622C5-5360-4692-AACB-8E6589E32BC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2" descr="http://freetechjournal.com/blog/wp-content/uploads/2010/12/press-journal.gif"/>
          <p:cNvPicPr/>
          <p:nvPr/>
        </p:nvPicPr>
        <p:blipFill>
          <a:blip r:embed="rId1"/>
          <a:stretch/>
        </p:blipFill>
        <p:spPr>
          <a:xfrm>
            <a:off x="6019920" y="1600200"/>
            <a:ext cx="2514600" cy="300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Find Your ‘Pattern Pardner’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the other representations of your linear rel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3ABF9-8FB8-4823-BEE6-EBDA88E699D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54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9B530-C457-47B8-959C-3131A3A9958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Introduce your partner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e your partner. We would like to know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ir n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re they come fr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ir ro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they hope to get from this we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5B5E7-7B81-45C6-94C3-70A803F6A0E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Breakout Goal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e want to explore the big ideas in Algebraic Think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e want to explore how we can support students by providing feedback in the moment that supports their lear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0A5C3-4B53-4810-BFDF-567324651FA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The Resource Corral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If there is something this week you would like to share with the rest of the group, note the name, and particulars (e.g. author, web address, etc) and reason in the </a:t>
            </a: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Resource Corral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A3002-D1E4-4B86-90EB-175A444A23E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Our Camp Bandana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s we progress through the week, note instructional strategies, big ideas, things that ‘stick with you’ on your bandan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2FDC7-FD06-4661-805D-6C707E52E43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A task for you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8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095B2-6B4E-4146-9000-B15C1DEBDDA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8229600" cy="52578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5" descr=""/>
          <p:cNvPicPr/>
          <p:nvPr/>
        </p:nvPicPr>
        <p:blipFill>
          <a:blip r:embed="rId2"/>
          <a:stretch/>
        </p:blipFill>
        <p:spPr>
          <a:xfrm>
            <a:off x="2286000" y="1600200"/>
            <a:ext cx="6381720" cy="4514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Gallery Walk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alk a walk and look at the solutions from the other group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Your thoughts on what you observ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A1E51-A88F-428F-A366-291AE6F96D7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Looking at student work…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hat types of respons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ould you anticipate students provid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for this same tas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7A4A3-3024-4E11-BA46-11902D17D09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SC</dc:creator>
  <dc:description/>
  <dc:language>en-US</dc:language>
  <cp:lastModifiedBy>Image Builder</cp:lastModifiedBy>
  <dcterms:modified xsi:type="dcterms:W3CDTF">2011-08-15T00:24:39Z</dcterms:modified>
  <cp:revision>31</cp:revision>
  <dc:subject/>
  <dc:title>&lt;Title&gt;</dc:title>
</cp:coreProperties>
</file>